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5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CA3A-C528-4800-B368-0937B35361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15D-6530-4CDB-BA16-AA5277C978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40A-CC3B-4E80-96B5-00292E44F6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44B-21ED-4C4D-995F-6005E5D84F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1C5-10E2-4E63-8120-5D15B1A9207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804-8D2F-4F31-92A0-CF87D39718C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FDF8-CAC1-4649-A5DC-D9F1910F6BD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29C4-9731-4A8F-9B4D-06DC868872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38D-1256-4EC9-8102-1E02DC0F069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C7A-11AC-490D-8CB1-EC047F54111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C42-E2CB-420A-A04E-96B63E8FF5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29CD-BF3D-4BEA-973C-76DE25E8D5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CE0-B943-4487-8B68-5F9631C5CF4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BC7-370B-4312-99B4-29897F8128B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987-FAC2-405A-8370-762DA9FC69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BD14-1F36-4A39-BF0A-31D93C954A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E9C-E354-432C-ACAC-5AA9CA3841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45D-002B-4A4D-9918-38364289F0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F54-5CB2-4BF1-8F84-9C115709E7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4A1-655F-4093-98E4-8873F48BAE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99D-5F92-4D53-B828-18BD9B01CFF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A895-1D24-485C-AAF7-9CBB7EC61C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25E-DEEB-4273-9537-521810DD93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3E22-145A-46AF-A6C6-A557D3502CA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70D-D474-49D6-B7B2-FF239FC76B8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94C-CBFD-414D-BFCC-6FBCB4910E0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65F-C444-4B79-BDCE-580361A3EB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6A1-17C6-4B8A-996A-865A557CF45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B3F-6430-4146-B83E-D5B26FE144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934-C8B3-411D-BB02-C800C3A7C7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8F8A-2903-40BE-A2E9-288A50AA5EE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7382-482A-4711-8082-DE0BCD793E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D93-C8A6-4879-96D5-51150E2B23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6118-1563-4D13-963D-0134D37FEFA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B0C-A638-45EB-A876-0A3FE470D8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75F7-3302-432B-89C2-F1676004D40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68BE-9BB4-403D-9829-26764AB892B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32C-7A88-4EDC-978E-EEC520CB419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97A0-B631-4D5B-87EA-A8B43FC457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D37-BA71-46A1-92D8-BD3BD30CE5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5D33-56B0-45FB-B1C7-9D5B64E2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A4D7-5C65-4280-9765-F9091FB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A62B-DC46-4C56-A647-98960AA0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094D-E85D-4B32-AB07-59ACB933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CFC-750B-4B88-886E-09CB9A44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A135-00B3-46BB-8CC7-22F4D40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4492-F317-4ECE-9C41-3D35B31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574-4482-4517-BB19-CD86CD8B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B51-98A8-42DC-905F-BC165C8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1F71-2122-4D8F-881A-CA76CFF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CF8-2CE5-412E-9996-CEE86B7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41AF-C8A2-4C9D-B427-00D8E5BE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CAA9-4234-4199-960B-71B0F7F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2AB2-2B2C-4A33-9F05-E03649F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9F4-9D79-4F06-A97A-CFBE15F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14A-B7BE-4473-8810-F3CFE801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01DA-E4AA-4C3C-813C-BA6B6782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044F-FF22-418D-91B6-3C393BEE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42F1-10F1-4FB1-A866-765E21F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9469-09AF-413D-A1BC-194AEBB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0338-542B-44D1-9B01-30950757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DF6B-3F4A-490B-9AD4-25EB676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90E1-275E-4B75-8648-316F15E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E222-4772-4048-B7E3-D7B805E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8E04-ED1F-4F6F-B37F-AA10CC8C361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BE57-071E-4F47-B559-1282216E3D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nerg&#237;a" TargetMode="External"/><Relationship Id="rId2" Type="http://schemas.openxmlformats.org/officeDocument/2006/relationships/hyperlink" Target="http://es.wikipedia.org/wiki/Adenos&#237;n_trifosfato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ffffff"/>
                </a:solidFill>
                <a:latin typeface="Arial"/>
              </a:rPr>
              <a:t>Tema 4: Anatomía y fisiología del Aparato Respiratorio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[respiratory_labeled.jpg]"/>
          <p:cNvPicPr/>
          <p:nvPr/>
        </p:nvPicPr>
        <p:blipFill>
          <a:blip r:embed="rId1"/>
          <a:stretch/>
        </p:blipFill>
        <p:spPr>
          <a:xfrm>
            <a:off x="250920" y="3500280"/>
            <a:ext cx="2793960" cy="33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17100"/>
          <p:cNvPicPr/>
          <p:nvPr/>
        </p:nvPicPr>
        <p:blipFill>
          <a:blip r:embed="rId2"/>
          <a:stretch/>
        </p:blipFill>
        <p:spPr>
          <a:xfrm>
            <a:off x="2987640" y="3789360"/>
            <a:ext cx="2913120" cy="233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POC"/>
          <p:cNvPicPr/>
          <p:nvPr/>
        </p:nvPicPr>
        <p:blipFill>
          <a:blip r:embed="rId3"/>
          <a:stretch/>
        </p:blipFill>
        <p:spPr>
          <a:xfrm>
            <a:off x="5796000" y="3933720"/>
            <a:ext cx="2857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bo musculo-cartilaginoso que comunica la faringe con la tráqu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delante de la fari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o por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eso hi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nueve cartílagos; los principales son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ric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artílago 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forma una prominencia en el cuello, más prominente en el hombre, llamad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nuez de Adá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1767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tiene forma de lengü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rante l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deg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ierra la entrada a la laringe para impedir que los alimentos entren en las vías respir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ntro de la laringe se encuentran dos pares de repliegues, l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uerdas voc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n un espacio triangular llamado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glo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laringe_seccion"/>
          <p:cNvPicPr/>
          <p:nvPr/>
        </p:nvPicPr>
        <p:blipFill>
          <a:blip r:embed="rId1"/>
          <a:stretch/>
        </p:blipFill>
        <p:spPr>
          <a:xfrm>
            <a:off x="4356000" y="549360"/>
            <a:ext cx="4686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8560" y="765000"/>
            <a:ext cx="410544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y dos pares de cuerdas vocales,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fal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superi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verdade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inferi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inferiores pueden vibrar al pasar el aire y producir sonidos, que con la boca y la lengua son transformados en palab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ensión de las cuerd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odifica el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to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amaño de la l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termina el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timbr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laringe_superior"/>
          <p:cNvPicPr/>
          <p:nvPr/>
        </p:nvPicPr>
        <p:blipFill>
          <a:blip r:embed="rId1"/>
          <a:stretch/>
        </p:blipFill>
        <p:spPr>
          <a:xfrm>
            <a:off x="179280" y="2093760"/>
            <a:ext cx="48243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1773360"/>
            <a:ext cx="3429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ráque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un tubo  de 13 cm de longitud y 2 de diáme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 delante del esóf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ormado por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anillos cartilaginoso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ivide en d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bronqui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que penetran en los pulmones, y siguen dividiéndose formando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árbol bronqu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ás finos se llama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bronquiol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terminan en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alvéol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8" descr="Traquea_Bronquios"/>
          <p:cNvPicPr/>
          <p:nvPr/>
        </p:nvPicPr>
        <p:blipFill>
          <a:blip r:embed="rId1"/>
          <a:srcRect l="0" t="20778" r="0" b="0"/>
          <a:stretch/>
        </p:blipFill>
        <p:spPr>
          <a:xfrm>
            <a:off x="250920" y="1844640"/>
            <a:ext cx="4971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622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tracto respiratorio está tapizado por u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telio cilíndrico pseudoestratificado cili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las células ciliadas ha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élulas caliciform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cretoras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ovimientos ciliares van recogiendo las bacterias y las otras partículas capturadas por la mucosa y las trasladan hacia la garganta, desde donde serán expulsadas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cilios_pulmones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490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traquea_epitelio"/>
          <p:cNvPicPr/>
          <p:nvPr/>
        </p:nvPicPr>
        <p:blipFill>
          <a:blip r:embed="rId2"/>
          <a:stretch/>
        </p:blipFill>
        <p:spPr>
          <a:xfrm>
            <a:off x="4788000" y="3278160"/>
            <a:ext cx="4105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 órganos de forma cónica, alojados en la caja torá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recho es más grande y tien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parados por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isu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izquierdo tien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pulmones"/>
          <p:cNvPicPr/>
          <p:nvPr/>
        </p:nvPicPr>
        <p:blipFill>
          <a:blip r:embed="rId1"/>
          <a:stretch/>
        </p:blipFill>
        <p:spPr>
          <a:xfrm>
            <a:off x="250920" y="1857240"/>
            <a:ext cx="511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bronquios, las arterias y las venas pulmonares entran en cada pulmón a través d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hil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continúan dividiénd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bronquiolos terminan en pequeñas vesículas llamad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alvéo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lvéolos están rodeados por una red de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apilares sanguíne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gases difunden entr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pulmon4"/>
          <p:cNvPicPr/>
          <p:nvPr/>
        </p:nvPicPr>
        <p:blipFill>
          <a:blip r:embed="rId1"/>
          <a:stretch/>
        </p:blipFill>
        <p:spPr>
          <a:xfrm>
            <a:off x="3851280" y="3517920"/>
            <a:ext cx="403380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alveo2"/>
          <p:cNvPicPr/>
          <p:nvPr/>
        </p:nvPicPr>
        <p:blipFill>
          <a:blip r:embed="rId2"/>
          <a:stretch/>
        </p:blipFill>
        <p:spPr>
          <a:xfrm>
            <a:off x="5292720" y="476280"/>
            <a:ext cx="3851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SCN0142"/>
          <p:cNvPicPr/>
          <p:nvPr/>
        </p:nvPicPr>
        <p:blipFill>
          <a:blip r:embed="rId1"/>
          <a:stretch/>
        </p:blipFill>
        <p:spPr>
          <a:xfrm>
            <a:off x="1763640" y="1413000"/>
            <a:ext cx="6913800" cy="5182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584676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ción longitudinal de pulmón de cordero. Árbol bronqu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leura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3280" y="198108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pulmones están recubiertos por una membrana doble: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leura parie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leura visc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ambas hay un líquido lubricante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líquido ple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pulmon_pleuras"/>
          <p:cNvPicPr/>
          <p:nvPr/>
        </p:nvPicPr>
        <p:blipFill>
          <a:blip r:embed="rId1"/>
          <a:stretch/>
        </p:blipFill>
        <p:spPr>
          <a:xfrm>
            <a:off x="250920" y="1987560"/>
            <a:ext cx="6121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0" descr="inspir-espir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El aparat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ías respir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Fosas nas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ráque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Bronqui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Bronquiol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aparato_respiratorio_adams"/>
          <p:cNvPicPr/>
          <p:nvPr/>
        </p:nvPicPr>
        <p:blipFill>
          <a:blip r:embed="rId1"/>
          <a:srcRect l="0" t="0" r="0" b="5905"/>
          <a:stretch/>
        </p:blipFill>
        <p:spPr>
          <a:xfrm>
            <a:off x="3276720" y="1789200"/>
            <a:ext cx="56512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arámetros respiratori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pulmonar to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una inspiración forzada. 6 l en hombres, 4,5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vi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condiciones de máximo esfuerzo. 4,5 l en hombres, 3,2 l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resid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ire que queda en los alveolos tras la espiración. Alrededor de 1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de ventilación o capacidad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spiración normal. Unos 500 ml, de los que llegan a los alvéolos 350 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Frecuencia ventil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2 – 18 por min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406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lugar por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roduce por las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diferencias de presión parci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e el alvéolo y la sangre, para cada uno de los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presión parci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propor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su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oncentr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una mezcla de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" descr="intercambio_gases"/>
          <p:cNvPicPr/>
          <p:nvPr/>
        </p:nvPicPr>
        <p:blipFill>
          <a:blip r:embed="rId1"/>
          <a:stretch/>
        </p:blipFill>
        <p:spPr>
          <a:xfrm>
            <a:off x="5351400" y="1628640"/>
            <a:ext cx="3792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intercambio_gases_2"/>
          <p:cNvPicPr/>
          <p:nvPr/>
        </p:nvPicPr>
        <p:blipFill>
          <a:blip r:embed="rId1"/>
          <a:stretch/>
        </p:blipFill>
        <p:spPr>
          <a:xfrm>
            <a:off x="900000" y="1916280"/>
            <a:ext cx="7524720" cy="4522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Aire inspirado y espirad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resión parci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492280"/>
          <a:ext cx="8291520" cy="2190960"/>
        </p:xfrm>
        <a:graphic>
          <a:graphicData uri="http://schemas.openxmlformats.org/drawingml/2006/table">
            <a:tbl>
              <a:tblPr/>
              <a:tblGrid>
                <a:gridCol w="1184400"/>
                <a:gridCol w="1185840"/>
                <a:gridCol w="1184040"/>
                <a:gridCol w="1182960"/>
                <a:gridCol w="1184040"/>
                <a:gridCol w="1185840"/>
                <a:gridCol w="1184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lveo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r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terst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él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e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58"/>
          <p:cNvSpPr/>
          <p:nvPr/>
        </p:nvSpPr>
        <p:spPr>
          <a:xfrm>
            <a:off x="611280" y="4889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 parcial de gases, a nivel del mar, en distintas regiones o partes del organismo [mm Hg]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Alveolo_pulmonar"/>
          <p:cNvPicPr/>
          <p:nvPr/>
        </p:nvPicPr>
        <p:blipFill>
          <a:blip r:embed="rId1"/>
          <a:stretch/>
        </p:blipFill>
        <p:spPr>
          <a:xfrm>
            <a:off x="1763640" y="1844640"/>
            <a:ext cx="6697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97 % es trasportado por l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Hemoglob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formándos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xi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hemoglobina contiene cuatro átomos de hierro en forma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ión ferro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cada uno de ellos se une de forma reversible a una molécula de oxíg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3 % restante se transport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disuelto en el plasma sanguín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hemoglobina"/>
          <p:cNvPicPr/>
          <p:nvPr/>
        </p:nvPicPr>
        <p:blipFill>
          <a:blip r:embed="rId1"/>
          <a:stretch/>
        </p:blipFill>
        <p:spPr>
          <a:xfrm>
            <a:off x="4572000" y="2060640"/>
            <a:ext cx="4356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hemo"/>
          <p:cNvPicPr/>
          <p:nvPr/>
        </p:nvPicPr>
        <p:blipFill>
          <a:blip r:embed="rId1"/>
          <a:stretch/>
        </p:blipFill>
        <p:spPr>
          <a:xfrm>
            <a:off x="468360" y="2060640"/>
            <a:ext cx="3251160" cy="403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ransporte_oxigeno"/>
          <p:cNvPicPr/>
          <p:nvPr/>
        </p:nvPicPr>
        <p:blipFill>
          <a:blip r:embed="rId2"/>
          <a:stretch/>
        </p:blipFill>
        <p:spPr>
          <a:xfrm>
            <a:off x="3851280" y="1916280"/>
            <a:ext cx="52927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hemoglobina es unas 200 veces más afín por el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nóxido de carbo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r el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CO, se form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oxihemoglob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 color rojo cereza, que no puede transportar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la muerte po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hipox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ero no se presenta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dióxido de carbo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65 % se transporta com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ón bicarbon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(H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, disuelto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25 % se transporta unido a la hemoglobina, en forma d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amino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10 % se transporta disuelto directamente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spiración celu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5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metabólico por el que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nutri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combinan con el oxígeno y se descomponen, liberand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curre en l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mitocondri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las cél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 energía es utilizada para la síntesis de molécul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ATP es utilizado para realizar otros procesos: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biosíntesi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contracción muscu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Respiracion celular"/>
          <p:cNvPicPr/>
          <p:nvPr/>
        </p:nvPicPr>
        <p:blipFill>
          <a:blip r:embed="rId1"/>
          <a:stretch/>
        </p:blipFill>
        <p:spPr>
          <a:xfrm>
            <a:off x="250920" y="2349360"/>
            <a:ext cx="4537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El proces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Ventilación pulmon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inspiración y espi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tre el aire y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ransporte de los gas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or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tre la sangre y los tej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Respiración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spiración aerob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3272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---&gt; 6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+ 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nergí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AT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23840" y="2997360"/>
            <a:ext cx="77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aceptor de los electr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prendidos de los compuestos orgánicos es 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oxíge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urre en varias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Glucó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xidación d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ácido pirúv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adena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fosforilación oxid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objetivo es mantener los niveles de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dentro de unos márgenes estrechos que permitan la funcionalidad 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demás, la respiración debe integrarse con el sistema digestivo, la emisión de sonidos, la t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istema está formado por unos centros respiratorios, que está distribuidos en varios grupos de neuronas integrados en 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tronco del encéfal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bulbo raquí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Control nervioso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patrón cíclico de respiración se modifica por diversos estímul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Cambios en el pH o en la concentración de CO</a:t>
            </a:r>
            <a:r>
              <a:rPr b="0" lang="es-E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y de O</a:t>
            </a:r>
            <a:r>
              <a:rPr b="0" lang="es-E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Situaciones como el ejercicio, emociones, cambios de presión arterial y temperatur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rol nervioso se basa en la presencia de un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mecan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pulmones, vías respiratorias, articulaciones y músculos, que recogen información y la transmiten a los centros respirato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aumenta la concentración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o cuando aumenta la concentración de iones hidrógeno en sangre, se estimulan l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quimi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uerpos carotídeo y aór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la velocidad de la respiración aumenta para eliminar el exceso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movimientos respiratorios se desarrollan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orma in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ero se puede modificar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manera 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tener conexiones con la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rteza cerebr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regulacion_respiracion"/>
          <p:cNvPicPr/>
          <p:nvPr/>
        </p:nvPicPr>
        <p:blipFill>
          <a:blip r:embed="rId1"/>
          <a:stretch/>
        </p:blipFill>
        <p:spPr>
          <a:xfrm>
            <a:off x="468360" y="138744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3"/>
          <p:cNvGrpSpPr/>
          <p:nvPr/>
        </p:nvGrpSpPr>
        <p:grpSpPr>
          <a:xfrm>
            <a:off x="438120" y="1773360"/>
            <a:ext cx="2447640" cy="1881000"/>
            <a:chOff x="438120" y="1773360"/>
            <a:chExt cx="2447640" cy="1881000"/>
          </a:xfrm>
        </p:grpSpPr>
        <p:sp>
          <p:nvSpPr>
            <p:cNvPr id="214" name="Text Box 6"/>
            <p:cNvSpPr/>
            <p:nvPr/>
          </p:nvSpPr>
          <p:spPr>
            <a:xfrm>
              <a:off x="438120" y="1773360"/>
              <a:ext cx="244764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Centr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941040" y="2349720"/>
              <a:ext cx="1390680" cy="13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2"/>
          <p:cNvGrpSpPr/>
          <p:nvPr/>
        </p:nvGrpSpPr>
        <p:grpSpPr>
          <a:xfrm>
            <a:off x="5694480" y="1773360"/>
            <a:ext cx="2886840" cy="2807640"/>
            <a:chOff x="5694480" y="1773360"/>
            <a:chExt cx="2886840" cy="2807640"/>
          </a:xfrm>
        </p:grpSpPr>
        <p:sp>
          <p:nvSpPr>
            <p:cNvPr id="217" name="Text Box 7"/>
            <p:cNvSpPr/>
            <p:nvPr/>
          </p:nvSpPr>
          <p:spPr>
            <a:xfrm>
              <a:off x="5694480" y="1773360"/>
              <a:ext cx="244800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Periféric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9" descr=""/>
            <p:cNvPicPr/>
            <p:nvPr/>
          </p:nvPicPr>
          <p:blipFill>
            <a:blip r:embed="rId2"/>
            <a:stretch/>
          </p:blipFill>
          <p:spPr>
            <a:xfrm>
              <a:off x="5981760" y="2349360"/>
              <a:ext cx="1228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7354440" y="34542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Verdana"/>
                </a:rPr>
                <a:t>a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7374960" y="24919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Verdana"/>
                </a:rPr>
                <a:t>Caróti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3"/>
          <p:cNvSpPr/>
          <p:nvPr/>
        </p:nvSpPr>
        <p:spPr>
          <a:xfrm>
            <a:off x="4788000" y="4581360"/>
            <a:ext cx="4176720" cy="1092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forma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79280" y="4589640"/>
            <a:ext cx="4176720" cy="13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tectan cambios en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 forma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indirecta (por cambios de 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Quimiorrecepto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79280" y="1716120"/>
          <a:ext cx="896472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6120"/>
                    <a:ext cx="89647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Hiperventil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producirse por respirar demasiado, respirar superficialmente, tomar grandes bocanadas de aire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niveles de 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incrementan y los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isminu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falta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la sangre es detectada por el cerebro, que de inmediato intentará poner remedio a esta situación. Nuestro cuerpo reacciona dificultándonos la respir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descensos del nivel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sangre, producen un aumento del pH de nuestra sangre. Esto produce mareos, palpitaciones, tembl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equilibrar los niveles de gases se puede respirar unos minutos tapando la nariz y la boca con una bolsa de pa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s_hwkb17_065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cavidades óseas situadas sobre la cavidad bu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odeadas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alad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nas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fron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paradas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abique nas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formado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vóm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artílago na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s paredes laterales están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orn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unicadas con el exterior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rificios 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f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enos para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glándulas lacrim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nductos lacr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pitelio ciliado con células productoras de 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ucosa que recubre los cornetes se llama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parte superior está la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Contiene las terminaciones de los nervios olfat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580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tracto_respiratorio_superior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ubo musculoso común a los aparatos digestivo y respira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unica 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boc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l istmo de las fau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esófag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fosas nasales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s coan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laringe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 glot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s trompas de Eustaqui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laringe_frontal"/>
          <p:cNvPicPr/>
          <p:nvPr/>
        </p:nvPicPr>
        <p:blipFill>
          <a:blip r:embed="rId1"/>
          <a:srcRect l="0" t="-2517" r="0" b="5051"/>
          <a:stretch/>
        </p:blipFill>
        <p:spPr>
          <a:xfrm>
            <a:off x="1619280" y="757080"/>
            <a:ext cx="7524720" cy="585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0000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4Z</dcterms:created>
  <dc:creator>Daniel</dc:creator>
  <dc:description/>
  <dc:language>en-US</dc:language>
  <cp:lastModifiedBy>Usuario</cp:lastModifiedBy>
  <dcterms:modified xsi:type="dcterms:W3CDTF">2014-11-11T12:17:13Z</dcterms:modified>
  <cp:revision>26</cp:revision>
  <dc:subject/>
  <dc:title>Tema 4: Anatomía y fisiología del Aparato Respiratorio</dc:title>
</cp:coreProperties>
</file>